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68A4-3948-4B5E-BBA1-DBB0954C94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D7D9-A814-4251-94F3-9B59E9BC64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F16-ED4C-4E62-80C5-51850517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985-73C1-4E82-818C-0B10AC2A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5EF-E57A-4391-A80C-6BE0561A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8F0-11C2-40EC-ADF3-799212D7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919A-6CD6-44D7-8AB2-D0B34303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3873-5A80-421E-886F-E2064073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5EC7-018C-4830-9A04-02012669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F40F-CAB3-46DC-B9F0-7D299A14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2935-8440-46E9-9B52-DE22C6CE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D8BF-6D21-4B2C-B38A-7AC42163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6C26-64BA-4F57-B6AA-F5040BDE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EA1-7491-4723-BB34-2CB58421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B911-1407-41D9-88FD-4A6BF762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07EA-6434-42B4-AC40-2371D850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28FE-300B-4E8B-B926-01E81ABF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4ED0-1A26-4296-BCA9-EA041DE9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CC23-D15C-4FFF-B103-CAAFA278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E91F-6DBD-435C-879D-29A3569D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FA67-6204-482D-A08D-BD215B58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98E7-35A8-47AB-9EB4-3AD9F607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32130-8670-4822-B8D4-88DF6691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93AE3-F5AD-496D-B63E-3F9B2904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413-A4AB-4019-8F87-5EA79D88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E368-EAC6-4AE4-814F-1C29BB57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4408-A66A-4C6A-A2B8-665B4948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BEAB-269D-493A-AD0B-AB135636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F2EB-7E7C-4028-B84D-B8FADAAC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020D-42D4-4909-95CE-28B301B8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799E-F52E-4A0C-A30D-F0F3D361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1F7E-3DBF-423C-BA92-7E8274F2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F93B4-572D-46C5-AF80-725428FC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D9C26-C34C-44DF-81DD-BEF95843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04CCF-F9D9-4B5B-9600-513E72E7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A5A-32E8-4F03-8201-909351F0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7DAB4-81D5-430A-9CF7-234815D5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ED7B6-01D5-4DED-8E6D-9827FC5E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1E00-0EF8-4B0E-9CE0-CB792BEB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D9E98-88A2-424B-AFA9-8AE6D8AC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8E9CE-7521-4C1D-ACBA-6D1FB9F7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6893D-8B6C-4E9A-9823-D3720084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2B069-B820-4F28-A122-5436AA50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DFDF-CB70-40B0-98BF-D8697AEA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7B6BD-0E79-4F7D-9150-D558FE4B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4531B-B76B-4838-BB88-89AE079C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1CB-4E38-4B15-BFB8-F44CBB03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8F143-6F6C-4589-BA9D-659E451E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75DE-C1A4-4081-8C48-7A280C8E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F1440-3A5F-46E9-BA39-E5D62D5F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D2BF3-89C1-470D-B8D1-313CD48A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0D736-C816-45CF-9D04-A8B5D903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0EDF4-8B9E-4D02-BF47-AACCBBCC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26076-16F6-41C3-9C84-ECA31565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C9429-B0E9-4735-B73D-5FD57D20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7A448-7D4C-453F-B23F-6F866227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A8A33-B7D7-4FD4-AB9A-5C42CF56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179-8476-4ABA-845C-3FCEE838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AD807-A7F4-48EA-9B66-4D3F0226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2BA-A076-4C78-A700-62A9F6E6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086-5F63-44B6-8D6E-89E8687E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A53-FA7B-4051-8D6A-10416E83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D147-743C-4B95-BCE6-EB8FB8EDC3E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2375-B0DF-4638-925A-5ADEB2744F04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5EC7-B4AD-4296-8E0D-7FB25F9480E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E936-9AAE-4AB1-8482-D10AAED3B9E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9D16-5768-4D20-9435-05CA0B2EF67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3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142720" y="3886200"/>
            <a:ext cx="671508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ernard MT Condensed"/>
              </a:rPr>
              <a:t>Лаевская Н.Л., Белопашенцева И.В., Дьяконова В.В.,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ernard MT Condensed"/>
              </a:rPr>
              <a:t>Залецкая Н.Н.,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Сапелкина И.И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МБДОУ  №548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3500280" y="271476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357120" y="241560"/>
            <a:ext cx="764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концепции воспитания основанной на Волновой технологии (автор Кузнецова Н.А.) говорится о единой волновой природе мира, человека и процессов его жизне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Это позволяет рассматривать процессы воспитания, образования и оздоровл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человека 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позиции явления резонанса в его положительном (созидательном)  проявлении, создавать и осуществля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эффективные способы коррекции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деструктивного поведения , гармониза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психологического и физического состояния, профилактики профдеформации и профвыгорания специалист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Благодар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применению метода Кузнецовой Н.А. визуализации абстрактных понятий осуществляется настройка субъектов на единые гармоничные опорные образы Нормы, формируется единое образовательное пространство на духовно-нравственных и здоровьсберегающих принципа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4000680" y="0"/>
            <a:ext cx="3571560" cy="3511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364320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0" y="428760"/>
            <a:ext cx="34988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3286080" cy="2143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357800" y="428760"/>
            <a:ext cx="3103560" cy="2047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571680" y="2928960"/>
            <a:ext cx="1914480" cy="2341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4"/>
          <a:stretch/>
        </p:blipFill>
        <p:spPr>
          <a:xfrm>
            <a:off x="3714840" y="3071880"/>
            <a:ext cx="314316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80264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фото работа\пед технологии\DSCN34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64080" cy="428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3714840" y="335772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13:52:04Z</dcterms:created>
  <dc:creator>admin</dc:creator>
  <dc:description/>
  <dc:language>en-US</dc:language>
  <cp:lastModifiedBy>admin</cp:lastModifiedBy>
  <dcterms:modified xsi:type="dcterms:W3CDTF">2016-12-08T15:13:40Z</dcterms:modified>
  <cp:revision>8</cp:revision>
  <dc:subject/>
  <dc:title>Апробация волновой концепция воспитания Кузнецова Н.А. в коррекционной работе с детьми с ТНР.</dc:title>
</cp:coreProperties>
</file>